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EE8-1B3D-46F3-96CE-A28ADEC4B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C70E-47E0-41BF-AA03-2D9A5AD3B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FE0-B014-45D4-B007-6711D506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A98-105B-4AEC-95DD-7C73741F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82A-D576-4160-94CD-0077DC6F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B90-ECAD-458D-837E-7214E884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F6F-E105-49F9-B170-9AA7BDC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7E2-AAB2-4DF0-9A1D-9B8B295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77A-743E-4C5C-B400-8F96A460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872-01C0-4CF9-A21A-A805CAF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2B9-3A6F-4BA9-AF18-71756C0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FB9-28CD-4ED0-879B-58A81412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C82-2890-4950-9B05-B725245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E7E-6D10-4F66-B52D-1C19D72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A6B4-7297-4338-89FE-0D4E757A5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773-F957-4AAB-8B22-7157CACCE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марта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4B1-935C-4630-971A-7184F239C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3-01T06:21:29Z</dcterms:modified>
  <cp:revision>165</cp:revision>
  <dc:subject/>
  <dc:title>Презентация PowerPoint</dc:title>
</cp:coreProperties>
</file>